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C49-75A5-4935-9EDF-D5F7C0C6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75F-411C-49B0-AAAE-249AE92C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39C-5275-4AD9-BBDD-B3D99E7B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C6A-0917-4AC3-B3F0-0454DE00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9AA-E67A-4051-8B0B-0892C86D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697-7A3B-4BE1-8D97-31ED0A99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539-51C6-4491-9DAB-C82A6EC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FB0-A9E6-409A-9581-928601C0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490-9A84-41AE-98F9-F15FA3FF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D03-CB78-46EC-BA9F-38B85EE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515-72F9-408F-9CA6-96BF770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F4B-BAEF-4DD8-B6A3-458218EB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6EC3-AD1B-4A99-B3CB-0AB69F72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Χρόνια Πολλ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λα Χριστούγεν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20:31Z</dcterms:created>
  <dc:creator>5o DHMOTIKO AMAROUSIOU</dc:creator>
  <dc:description/>
  <dc:language>en-US</dc:language>
  <cp:lastModifiedBy>5o DHMOTIKO AMAROUSIOU</cp:lastModifiedBy>
  <dcterms:modified xsi:type="dcterms:W3CDTF">2011-12-06T11:20:42Z</dcterms:modified>
  <cp:revision>1</cp:revision>
  <dc:subject/>
  <dc:title>Χρόνια Πολλά</dc:title>
</cp:coreProperties>
</file>